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599C-B973-4381-A19D-6662AAB88CF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68DF-8948-451A-BCF6-842FE9D98C97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AC39-98EB-4DE6-8DA7-9EEE77E40AD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B8D6-8418-41B4-A624-5E666587D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5F87-1097-469E-A940-ED199651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749F-C326-4910-B128-DC907670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7F0D-EE5F-48FA-B6D9-01C496844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5B57-65D8-4EBB-99DE-C4E649E0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AB39-C634-48CF-9E94-471F2B2F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8C9A-1C65-414E-ABBD-CB16F626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3CC0-9E36-40A0-A888-070A8CE3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9060-D834-41A1-B574-F69EDA13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4382-671C-42B4-AA5B-8A8851D4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46B6-0990-4D02-97B2-1293EDB3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9ECB-46EC-45AD-B0F8-EEE12A48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292D-D03F-43AF-94CB-9480A8BC627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그림 1" descr=""/>
          <p:cNvPicPr/>
          <p:nvPr/>
        </p:nvPicPr>
        <p:blipFill>
          <a:blip r:embed="rId1"/>
          <a:stretch/>
        </p:blipFill>
        <p:spPr>
          <a:xfrm>
            <a:off x="5880240" y="1225440"/>
            <a:ext cx="2477880" cy="4619880"/>
          </a:xfrm>
          <a:prstGeom prst="rect">
            <a:avLst/>
          </a:prstGeom>
          <a:ln w="0">
            <a:noFill/>
          </a:ln>
        </p:spPr>
      </p:pic>
      <p:pic>
        <p:nvPicPr>
          <p:cNvPr id="62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3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5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직사각형 29"/>
          <p:cNvSpPr/>
          <p:nvPr/>
        </p:nvSpPr>
        <p:spPr>
          <a:xfrm>
            <a:off x="0" y="422280"/>
            <a:ext cx="4406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9920" y="996840"/>
            <a:ext cx="4533840" cy="31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- 435*316*113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1.5</a:t>
            </a: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층 침대용 철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BODY : 15x35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20x20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사각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/ 1.6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직선 연결선 32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33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LADDER &lt;DIL3004B-1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인용 사다리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선 연결선 34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사각형 3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1:16Z</dcterms:modified>
  <cp:revision>254</cp:revision>
  <dc:subject/>
  <dc:title>슬라이드 1</dc:title>
</cp:coreProperties>
</file>